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57D-B6C3-44E3-9D7B-9371A755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0F6-BAC1-47A1-A277-F6857BE9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1D3-F9C6-47F9-A343-CAAE94A6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95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052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95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052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B08-1423-4B24-A809-8B727DF6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F713-B979-429A-B43D-91059F4A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81EE-1BC4-44AF-8F85-0FDC80C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595A-56EF-4E9C-BBAF-4CBD47EB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BBF9-F29C-47FE-9E18-F2F53F91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FC38-F13B-4711-8F1C-133E05B5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8872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0DD0-CCEE-476D-92CE-9669E4E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16B8-B5A9-491B-B808-4C3533F7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3C7-88DC-415D-A5E0-ED9BD8DC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20F2-3278-4094-9CC9-34D31CEE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C649-A0C0-42CE-86B7-C90D5BDC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E7EC-E929-42F8-B14F-F749A20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7B9B-BF18-4A0C-8364-1B5E046D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695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052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695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052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94EF-127C-4D29-99E2-06572023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E1C-1736-485B-B360-21314492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78B-BFEA-4FAC-AFBC-53BF8889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058-B52A-4DA9-B85D-C57CBC05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8872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617-0D6E-4F0C-91E3-39F0146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383-0D58-4F3C-9DF4-A1A84DF4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33A-D57B-4470-A27A-705D312A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17F-9FF3-4060-96B9-8AAA793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DC90-AB60-4EBE-A4E3-FA18358EC20B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B128-20EC-41D5-A4C2-5E5975AF99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SPSV/2006-2007/11thGrade/CrucibleProject/CrucibleProjec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Tahoma"/>
              </a:rPr>
              <a:t>The Crucible </a:t>
            </a:r>
            <a:r>
              <a:rPr b="1" lang="en-US" sz="4000" spc="-1" strike="noStrike">
                <a:solidFill>
                  <a:srgbClr val="dfd293"/>
                </a:solidFill>
                <a:latin typeface="Tahoma"/>
              </a:rPr>
              <a:t>Project</a:t>
            </a:r>
            <a:endParaRPr b="1" lang="en-US" sz="40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witch hunt for informati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The Crucible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 Projec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he Process – Step 3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earch— finding reliable sour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ider the Sourc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are 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ek the Original Sourc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eck with a librarian, teacher, pare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en evaluating a source on the net ask yourself: Is the information (1) reasonable, (2) reliable, (3) accurate, (4) current, (5) complete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The Crucible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 Projec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he Process – Step 3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fotrac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Annotated Bibliography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notated Bibliography is a list of citations to books, articles, and documents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ach citation is followed by a brief (usually about 150 word) descriptive and evaluative paragraph, the annotation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purpose of the annotation is to inform the reader of the relevance, accuracy, and quality of the sources cit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Annotated Bibliography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You must have 3 typed annotations of 1 paragraph each that must include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LA citation format for the arti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mmary of the main ideas in the arti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-2 sentences stating your impression of the article (what did you like/dislike about it?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Annotated Bibliography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SAMPLE ANNOT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ite sources in MLA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riter’s Inc. pp 259-27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Annotated Bibliography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Explain the main point of the source(book, journal, website,etc.) in three to five sentences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cus on: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purpose, content, special valu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 sure to use complete sentences and to avoid wordiness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In 1-2 sentences state your impression of the artic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do you like or dislik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MAXIMUM 7 SENTEN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The Crucible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 Project— Schedule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83808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19320" y="914400"/>
          <a:ext cx="7391160" cy="5551560"/>
        </p:xfrm>
        <a:graphic>
          <a:graphicData uri="http://schemas.openxmlformats.org/drawingml/2006/table">
            <a:tbl>
              <a:tblPr/>
              <a:tblGrid>
                <a:gridCol w="2463840"/>
                <a:gridCol w="2463480"/>
                <a:gridCol w="2463840"/>
              </a:tblGrid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e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 D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nline, jour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19/06 (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notated Bibliograph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24/06 (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25/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nn Dia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26/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tter to Edi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27/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werPoint Present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31/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Agenda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roduction to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he Crucib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. Vog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Projec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notated Bibliography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up Assignme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Introduction – </a:t>
            </a: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The Crucible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nre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y- traged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uthor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thur Mill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ear Published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95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tting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lem, Massachuset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mes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oleranc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steri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put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Vogt’s Website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partments-Englis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s. Vog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jec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rucible Projec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ject opens in a new page (CTRL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523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981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30481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The Crucible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 Projec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his project has several components broken up into a step-by-step model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dividu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ulminates in a PowerPoint Present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ject will take approximately two week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Crucible 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Projec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This project introduces The Crucible by posing the following question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should be done to keep the innocent from being accused and presumed guilty?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Crucible 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Projec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You wil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earch the background of the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lem Witch Trials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cCarthyism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d other "witch hunts" throughout history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d their causes, evaluate their consequences, and develop a solution that would help avoid and/or prevent such "witch hunts" in the future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tter to the Edito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The Crucible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 Projec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he Pro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 steps 1 &amp; 2 for homework tonight.  Journal in your notebooks.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eps 3, 4, 5 will begin in the library tomorrow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293"/>
                </a:solidFill>
                <a:latin typeface="Tahoma"/>
              </a:rPr>
              <a:t>The Crucible</a:t>
            </a: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 Projec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he Process – Step 3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urces onli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B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story Textboo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 must use 3 sources (annotated bibliography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1:38:11Z</dcterms:created>
  <dc:creator>Cpittman</dc:creator>
  <dc:description/>
  <cp:keywords/>
  <dc:language>en-US</dc:language>
  <cp:lastModifiedBy>Barbara Vogt</cp:lastModifiedBy>
  <dcterms:modified xsi:type="dcterms:W3CDTF">2010-03-14T19:04:51Z</dcterms:modified>
  <cp:revision>8</cp:revision>
  <dc:subject/>
  <dc:title>The Crucibl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51033</vt:lpwstr>
  </property>
</Properties>
</file>